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396C-314D-435D-BAA3-D30AD60BA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0751-504E-485D-9876-2421705DB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0960-3C5E-4BE3-897A-91B32BC6B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FB34-DBFD-4450-9D3A-C78CDD789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C6579-664B-4663-89E0-474974B16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76D24-2868-4012-8141-256BFF2F0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481F9-05E0-422B-909F-A855077BB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E2D14-4B61-4410-B1AE-665466E7F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466FD-9CD1-41AD-8843-3BF1B0ADE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36471-0369-4107-AC3B-F436CABFF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EDACD-A563-41DB-8E6B-F7E1D46D2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5372-A9BE-41F1-863D-237508F50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A817B-366E-4C9F-9242-E9A6FF4B5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04368-8D38-4FA3-8E5F-46174E23B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C91A6-8169-4DC8-B62B-B259E3E13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F642C-018A-4B71-8231-37A91AC86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B4E32-0CBB-4361-AD04-0B87B3BF4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BF99D-ED56-4148-AC77-CD2177F0B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974F5-752E-48E3-BF30-7AB3995B9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B6373-FF93-47CC-8C19-153E25564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D6301-26E5-41C9-8F8D-9046141B2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443B3-A164-4DBE-94B5-9D7B611AF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EFDA-96F8-46A0-AA34-07D7E10C1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F1C05-6B66-4EB8-83E6-1E287E6AA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EC64C-94DF-4AE4-9F52-A5D07A5A6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98D51-6659-4737-A962-20008C723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1C96C-87A3-45DA-A22F-3FEF7E2BA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929B9-EA92-4008-9E02-5AB704633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677E3-E00D-4BD2-8B22-6E307AB56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A0C48-077A-47BD-B945-C58E560C7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1BBD9-91D3-4F64-86C1-703FF981E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73A54-8021-4A55-A385-98A4F66E5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F2A43-FB4F-49D4-B03F-C86B36DF7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C75C-40F8-4D4E-8450-7D6A49ECC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9375A-D4A6-4C58-B237-CE359CC2C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6764B-35E6-4194-870E-BCE20EE04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26BED-A262-45DE-AEFA-8EC94CB01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997AD-0A7F-43B8-A858-4D4D77012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5771B-9E43-42A9-BD27-33654CA58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0E9F1-E08F-4276-9F8E-8D6F40F12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7DE6D-DD6A-4A44-B33F-9094A5721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7C8ED-C83C-412A-8FD4-FB57AA4E0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94186-ED56-4A1F-951C-5329E42ED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4217-9270-4FA9-A7E4-348278993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D6E2-D211-4D05-8639-760E9FEEC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A26C-EED8-43A0-9E81-26F888525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405A-643C-4EC4-B97A-C050E33D9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84DB-870D-46D1-8C6B-B16160223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00109-8182-475A-BE17-8DE9ED77DD4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C631A-0476-4032-A10D-A26AEE586E5A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7264C-863C-4A38-BAA6-7DFF4D0D3503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70704-656E-4A7A-9194-7A28221D9C57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669960" y="987480"/>
            <a:ext cx="7883640" cy="32860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214280" y="3999240"/>
            <a:ext cx="7096320" cy="228780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PROIECT REALIZAT DE ELEVII :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Palotas  Timea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Zsigmond Zsuzsanna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Szekely Hunor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Ochis Laura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Bilantul societatii la 31.12.2008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4" name="Picture 2" descr=""/>
          <p:cNvPicPr/>
          <p:nvPr/>
        </p:nvPicPr>
        <p:blipFill>
          <a:blip r:embed="rId1"/>
          <a:stretch/>
        </p:blipFill>
        <p:spPr>
          <a:xfrm>
            <a:off x="1185840" y="2023920"/>
            <a:ext cx="6772320" cy="42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Indicatorii economico-financiari calculati pentru anul 2007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ichiditatea curenta = 0,9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ichiditatea imediata = 0,74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radul de indatorare = 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Viteza de  rotatie  a debitelor –clienti = 153,85 zi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Viteza de rotatie  a creditelor  - furnizori = 46,26 zi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rja bruta din vanzari = 44 ,57 %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390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Indicatorii economico-financiari calculati pentru anul 2008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21333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ichiditatea curenta = 1,98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ichiditatea imediata = 1,49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radul de indatorare = 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Viteza de  rotatie  a debitelor –clienti = 40,28 zi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Viteza de rotatie  a creditelor  - furnizori = 52,27 zi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rja bruta din vanzari = 34,37%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Grafice cu evolutia indicatorilor economico-finaciari in perioada 2007-2008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0" name="Content Placeholder 5" descr=""/>
          <p:cNvPicPr/>
          <p:nvPr/>
        </p:nvPicPr>
        <p:blipFill>
          <a:blip r:embed="rId1"/>
          <a:stretch/>
        </p:blipFill>
        <p:spPr>
          <a:xfrm>
            <a:off x="457200" y="193500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Concluzii final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nul 2008 inseamna pentru societatea DELTA SRL , un an financiar bu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mparativ cu anul 2007 toti indicatorii economico-financiari s-au imbunatati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radul indatorare a ramas constant, ceea ce arata ca societatea detinhe suficiente resurse banesti pentru finantarea afacerii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Date informative despre socie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457200" y="1600200"/>
          <a:ext cx="8229600" cy="462744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120"/>
                <a:gridCol w="1175040"/>
                <a:gridCol w="1176120"/>
                <a:gridCol w="1174680"/>
                <a:gridCol w="1176480"/>
              </a:tblGrid>
              <a:tr h="371520">
                <a:tc gridSpan="3"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umele societatii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C DELTA SR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gridSpan="5"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dul de identificare fisca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8580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 gridSpan="7"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resa 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080">
                <a:tc>
                  <a:txBody>
                    <a:bodyPr lIns="68760" rIns="68760" tIns="0" bIns="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calit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gridSpan="6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ud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 gridSpan="6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U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160">
                <a:tc>
                  <a:txBody>
                    <a:bodyPr lIns="68760" rIns="68760" tIns="0" bIns="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r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gridSpan="6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A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080">
                <a:tc>
                  <a:txBody>
                    <a:bodyPr lIns="68760" rIns="68760" tIns="0" bIns="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 gridSpan="6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arta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gridSpan="6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gridSpan="6">
                  <a:txBody>
                    <a:bodyPr lIns="68760" rIns="68760" tIns="0" bIns="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marL="1144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r de inregistrare la Registrul Comertulu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12/2501/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71520">
                <a:tc gridSpan="4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rma de propiet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RL – SOCIETATE CU RASPUNDERE LIMIT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360">
                <a:tc gridSpan="7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dul CAEN (conform Clasificarii Activitatii Economiei Nationale)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91 - Comert cu amanuntul prin intermediul caselor de comenzi sau prin intern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gridSpan="2">
                  <a:txBody>
                    <a:bodyPr lIns="68760" rIns="68760" tIns="0" bIns="0" anchor="t">
                      <a:noAutofit/>
                    </a:bodyPr>
                    <a:p>
                      <a:pPr marL="114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      Capital so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 le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Balanta de verificare la data de 31.12.2007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457200" y="1935000"/>
          <a:ext cx="8229600" cy="24555600"/>
        </p:xfrm>
        <a:graphic>
          <a:graphicData uri="http://schemas.openxmlformats.org/drawingml/2006/table">
            <a:tbl>
              <a:tblPr/>
              <a:tblGrid>
                <a:gridCol w="822240"/>
                <a:gridCol w="824040"/>
                <a:gridCol w="822240"/>
                <a:gridCol w="824040"/>
                <a:gridCol w="822240"/>
                <a:gridCol w="822240"/>
                <a:gridCol w="824040"/>
                <a:gridCol w="822240"/>
                <a:gridCol w="824040"/>
                <a:gridCol w="822240"/>
              </a:tblGrid>
              <a:tr h="371520"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ELTA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R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70080">
                <a:tc gridSpan="5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LANTA DE VERIFICARE LA 31 DECEMBRIE </a:t>
                      </a:r>
                      <a:r>
                        <a:rPr b="1" lang="en-US" sz="12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9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duri initi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laje perioa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su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duri fin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numi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b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d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b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d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b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d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b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d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10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ITAL SUBSCRIS VARSA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1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IT SI PIERDE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52.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610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9.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921.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88.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19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2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LTUIELI DE CONSTITUI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19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28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ORT. CHELT.DE CONSTITUI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19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3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. DE NATURA OB. DE INVENT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8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3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3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9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3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FUR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127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939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9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5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3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.DE PRET LA MARFUR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84.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70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49.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967.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17.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0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4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RNIZOR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721.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803.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14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342.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28.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4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RNIZORI-FACTURI NESOSI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41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ENT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3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4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ONAL - SALARII DATO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66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43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TB. UNITATII LA ASIG. SO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4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TB. ANG. LA ASIG. SO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66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43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TB. FIRMA PT. ASIG. SOC. SANAT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43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TB. ANG. LA ASIG. SOC. SANAT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924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43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D GARANTARE A CREANTELOR SALARI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43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TR. UNITATII LA  FD. SOMAJ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66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43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TR. ANG. LA FD. SOMAJ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71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OZITUL PE SALARI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0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44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JOF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19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4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NDURI SPECIALE TAXE SI VAR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45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OCIATI-CONTURI CURE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5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5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66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. DIN OP. IN CURS DE CLARIF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2.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2.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51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URI LA BANCA IN LE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.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6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03.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256.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01.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54.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51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E IN CURS DE DECONTA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53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A IN LE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176.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6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82.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81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70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5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RAMENTE INTER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19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60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LT. PRIVIND COMBUSTIBILU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.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.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18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60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LT.CU ALTE MAT.CONSUMABI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56.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56.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75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75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66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6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LT. CU MAT.NESTOC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8.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8.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1.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1.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6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LT. PRIVIND MARFURI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33.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33.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84.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84.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19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6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LT. POSTALE SI TAXE TELECOM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3.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3.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34.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34.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66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6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LT. CU SERV.BANCA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2.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2.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18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6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E CHELT.CU SERV.LA TERT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3.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3.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6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6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19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6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LT.CU ALTE IMPOZITE &amp; TAX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66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6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LT. CU SALARII PERSON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64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TB. UNIT. LA ASIG.SO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66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64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TB. UNIT. LA AJ.DE SOMAJ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18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RIB. FIRMEI PT.ASIG.SOC.SANA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19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6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LT. CU SCONTURILE ACORD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19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68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LT. DE  EXPL.CU AMORT. IMOB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7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. DIN VANZARI DE MARFUR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9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9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66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7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. DIN ACTIVITATI DIVER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74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NITURI DIN SUBV AJOF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7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. DIN DOBINZ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ur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.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.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754.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754.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0173.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0173.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226.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226.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Balanta de verificare la data de 31.12.2008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457200" y="1935000"/>
          <a:ext cx="8229600" cy="29273760"/>
        </p:xfrm>
        <a:graphic>
          <a:graphicData uri="http://schemas.openxmlformats.org/drawingml/2006/table">
            <a:tbl>
              <a:tblPr/>
              <a:tblGrid>
                <a:gridCol w="822240"/>
                <a:gridCol w="824040"/>
                <a:gridCol w="822240"/>
                <a:gridCol w="824040"/>
                <a:gridCol w="822240"/>
                <a:gridCol w="822240"/>
                <a:gridCol w="824040"/>
                <a:gridCol w="822240"/>
                <a:gridCol w="824040"/>
                <a:gridCol w="822240"/>
              </a:tblGrid>
              <a:tr h="371520"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ELTA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R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557280"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LANTA DE VERIFICARE LA 31 DECEMBRIE </a:t>
                      </a:r>
                      <a:r>
                        <a:rPr b="1" lang="en-US" sz="12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9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duri initi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laje perioa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su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duri fin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numi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b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d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b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d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b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d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b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d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66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10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ITAL SUBSCRIS VARSA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771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11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ZULTATUL REPORTAT - PROFITUL NEREP./ PIREDE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88.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88.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9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1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IT SI PIERDE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88.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52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296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2775.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032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257.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19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3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. DE NATURA OB. DE INVENT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3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3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3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3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FUR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5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1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6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8531.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85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996.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9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3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.DE PRET LA MARFUR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17.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627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20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048.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575.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26.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4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RNIZOR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28.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820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586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7600.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6353.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752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66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4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RNIZORI-FACTURI NESOSI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40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R.-DEBIT PT.PRESTARI SERVICI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.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.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.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41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ENT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295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478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6074.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3905.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169.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0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4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ENTI - CREDITOR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420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420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4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ONAL - SALARII DATO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43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TB. UNITATII LA ASIG. SO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66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4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TB. ANG. LA ASIG. SO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43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TB. FIRMA PT. ASIG. SOC. SANAT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66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43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TB. ANG. LA ASIG. SOC. SANAT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923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43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D GARANTARE A CREANTELOR SALARI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66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43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TR. UNITATII LA  FD. SOMAJ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43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TR. ANG. LA FD. SOMAJ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44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OZITUL PE PROF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0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OZITUL PE SALARI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71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44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JOF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19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4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NDURI SPECIALE TAXE SI VAR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66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45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OCIATI-CONTURI CURE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5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444.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4.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. DIN OP. IN CURS DE CLARIF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2.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87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27.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39.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66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51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URI LA BANCA IN LE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54.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41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946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6789.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3627.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16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51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URI LA BANCA IN DEVIZ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59.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59.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66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51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E IN CURS DE DECONTA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1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53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A IN LE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81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77.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605.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491.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13.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70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5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RAMENTE INTER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784.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784.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19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60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LT. PRIVIND COMBUSTIBILU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0.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0.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18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60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LT.CU ALTE MAT.CONSUMABI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3.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3.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9.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9.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66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6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LT. CU OBIECTE DE INVENT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93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93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6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LT. CU MAT.NESTOC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9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9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82.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82.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66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6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LT. PRIVIND MARFURI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9486.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9486.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6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LT. CU INTRETINEREA SI REP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.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.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19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6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LT. POSTALE SI TAXE TELECOM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15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15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52.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52.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66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6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LT. CU SERV.BANCA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7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7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11.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11.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18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6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E CHELT.CU SERV.LA TERT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85.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85.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554.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554.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19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6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LT.CU ALTE IMPOZITE &amp; TAX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66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6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LT. CU SALARII PERSON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64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TB. UNIT. LA ASIG.SO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64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TB. UNIT. LA AJ.DE SOMAJ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19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RIB. FIRMEI PT.ASIG.SOC.SANA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66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65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LTUIELI NEDEDUCTIBI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1.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1.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19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6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LT. CU SCONTURILE ACORD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8.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8.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6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LT. CU IMPOZITUL PE PROF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7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. DIN LUCRARI SI SERVICI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66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7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. DIN VANZARI DE MARFUR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6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6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85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85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7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. DIN ACTIVITATI DIVER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27.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27.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645.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645.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66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74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NITURI DIN SUBV AJOF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19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75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. DIN DESPAGUBIRI SI PENALIT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18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. DIN DIF.DE CURS VALUT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.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.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7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. DIN DOBINZ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.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.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4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ur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226.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226.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00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00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2924.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2924.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469.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469.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Bilantul societatii la 31.12.2007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1590840" y="1935000"/>
            <a:ext cx="596232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Bilantul societatii la 31.12.2007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1638360" y="1935000"/>
            <a:ext cx="586728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Bilantul societatii la 31.12.2007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8" name="Picture 2" descr=""/>
          <p:cNvPicPr/>
          <p:nvPr/>
        </p:nvPicPr>
        <p:blipFill>
          <a:blip r:embed="rId1"/>
          <a:stretch/>
        </p:blipFill>
        <p:spPr>
          <a:xfrm>
            <a:off x="1638360" y="2203560"/>
            <a:ext cx="5867280" cy="38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Bilantul societatii la 31.12.2008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1635120" y="1935000"/>
            <a:ext cx="587376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Bilantul societatii la 31.12.2008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1679400" y="1935000"/>
            <a:ext cx="57852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cum care adi ?</cp:lastModifiedBy>
  <dcterms:modified xsi:type="dcterms:W3CDTF">2010-02-26T12:14:22Z</dcterms:modified>
  <cp:revision>5</cp:revision>
  <dc:subject/>
  <dc:title>ANALIZA ECHILIBRULUI FINANCIAR LA  SC X SRL</dc:title>
</cp:coreProperties>
</file>